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A20-03FB-4E9B-B09B-07B7A1A7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317-E8F4-4864-98E6-E76BCAA9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97F-832E-4644-B659-57999A9D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2D4-E2D0-45D1-AFD5-C9F5B42D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C47-12F6-476B-BF12-B684753E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F73-BFE9-4C5A-B54E-44FEF4AF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352-FF74-4C75-8E96-355EEEE5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F99-DD50-45C8-A5D1-AB7139F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35C-A88A-4950-91FB-0040E88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546-E79E-4E22-AEC2-B8AC0A98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6DF-EE71-4348-ACEE-F906B02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2F3-2FC8-4C65-A366-CC79779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2E6E-A77E-4F51-95B3-2A561137A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3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b050"/>
                </a:solidFill>
                <a:latin typeface="Arial"/>
              </a:rPr>
              <a:t>L.O:  To recall house and hom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TOMAR QUIZ: REPAS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hermano de mi padre es mi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ja de mis tíos es mi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soy __________ de los padres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dres de mis padres son mis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ja de mis padres es mi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05120" y="1733400"/>
            <a:ext cx="5667120" cy="3295800"/>
          </a:xfrm>
          <a:prstGeom prst="rect">
            <a:avLst/>
          </a:prstGeom>
          <a:ln w="0">
            <a:noFill/>
          </a:ln>
        </p:spPr>
      </p:pic>
      <p:sp>
        <p:nvSpPr>
          <p:cNvPr id="44" name="Line 3"/>
          <p:cNvSpPr/>
          <p:nvPr/>
        </p:nvSpPr>
        <p:spPr>
          <a:xfrm flipV="1">
            <a:off x="6400800" y="2286000"/>
            <a:ext cx="83808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V="1">
            <a:off x="4876920" y="1905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962520" y="4724280"/>
            <a:ext cx="0" cy="99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5257800" y="4876920"/>
            <a:ext cx="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6553080" y="4876920"/>
            <a:ext cx="106704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1980720" y="4800600"/>
            <a:ext cx="762120" cy="9144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304920" y="6248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30492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891540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114800" y="147780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Verdana"/>
              </a:rPr>
              <a:t>El b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629400" y="1859040"/>
            <a:ext cx="2514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l dorm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086600" y="566892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Verdana"/>
              </a:rPr>
              <a:t>La coc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419720" y="556272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6600"/>
                </a:solidFill>
                <a:latin typeface="Verdana"/>
              </a:rPr>
              <a:t>El com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971800" y="574524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Verdana"/>
              </a:rPr>
              <a:t>La s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90720" y="5745240"/>
            <a:ext cx="1828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0099"/>
                </a:solidFill>
                <a:latin typeface="Verdana"/>
              </a:rPr>
              <a:t>El gar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2895480" y="6324480"/>
            <a:ext cx="3810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os cuartos de la c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762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La familia Lopez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 en oraciones compl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as personas hay en la familia López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inco perso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n ellos una casa o un apartame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a c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viven ellos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Barcel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s cuartos tiene su cas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oc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I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Expresiones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emparej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a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mucho en la esc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l quinto p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vi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una nov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render ___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. un alumno bueno y s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d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e. una carta con bolí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. una limo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r 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. en una casa priv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. un programa depor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bi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. fruta en 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b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. carne, ensalada y pa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MI FAMILIA Y MI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7:52:45Z</dcterms:created>
  <dc:creator>Helen Zumaeta</dc:creator>
  <dc:description/>
  <dc:language>en-US</dc:language>
  <cp:lastModifiedBy>Helen Zumaeta</cp:lastModifiedBy>
  <cp:lastPrinted>2014-09-30T13:25:55Z</cp:lastPrinted>
  <dcterms:modified xsi:type="dcterms:W3CDTF">2015-10-13T14:59:09Z</dcterms:modified>
  <cp:revision>17</cp:revision>
  <dc:subject/>
  <dc:title>Me llamo _______ Clase 6nh/il La fecha es el 4 de marzo del 2011</dc:title>
</cp:coreProperties>
</file>